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D8DC-5672-4AB0-9A0A-8B080A91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CA73-48A2-4B2B-AF79-F4D2D035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7D7B-7221-471B-AE6A-9C9D0F18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981B-F096-4D69-A551-F09EC6E3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ADB6-D7FB-4BA9-A447-C899BD27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961F-46C7-4303-9A57-0EF10761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4449-BB97-47B3-BC52-82974D92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E980-599F-4126-A4E7-FB55C160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FE5C-3B36-48D5-A7C6-717BECF9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661-612A-4306-9F76-066CCF59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B137-B672-4C36-828D-4F51345D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74D5-5D34-4837-91A1-C875C828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40FA-88BF-4B41-940D-CCEAE214A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a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Katie and S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y/10-24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Renegade"/>
          <p:cNvPicPr/>
          <p:nvPr/>
        </p:nvPicPr>
        <p:blipFill>
          <a:blip r:embed="rId1"/>
          <a:stretch/>
        </p:blipFill>
        <p:spPr>
          <a:xfrm>
            <a:off x="0" y="0"/>
            <a:ext cx="2824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for watching  :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id they live in Tex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der of northern Me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ache lived on the great pl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they eat and how did they get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te dear and rab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unted with bow and arrows the weapons gathered veg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ere there daily life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ting ,gath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men raised the young gathered grass to make bask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 hunted and trained for comb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505320" y="3886200"/>
            <a:ext cx="16952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ere there traditions and celebra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d spiritual d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they believe and who did they wor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nder/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081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y known 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ing hun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riors valued there child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ntributions did they give to Tex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hanged for them as settlers arriv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y of life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20:42:53Z</dcterms:created>
  <dc:creator>hall</dc:creator>
  <dc:description/>
  <dc:language>en-US</dc:language>
  <cp:lastModifiedBy>hall</cp:lastModifiedBy>
  <dcterms:modified xsi:type="dcterms:W3CDTF">2011-10-24T21:48:54Z</dcterms:modified>
  <cp:revision>3</cp:revision>
  <dc:subject/>
  <dc:title>apache</dc:title>
</cp:coreProperties>
</file>